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9DCCD-DF7E-461A-B165-1A568E5BCC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FEC6E-C9CE-49F7-87A3-8BB550ABA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39916-8F27-4D3E-A18C-7D6C93E43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30730-6784-4946-8A46-AA224F236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605-86DA-4ECD-8EAF-D5ED89FF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33C-8645-48A0-9CE1-45AA5678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BFE-E342-44E1-B222-5C331AB6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30C-D35D-42F8-9320-4D1DFBB6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274-028F-4B3B-85ED-72553C20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83C-C51E-4FA6-ACD5-A2286CA7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219-EB3C-427D-99DA-B89DDD6C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A57-D6D7-40E3-8301-953BA0D5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0F6-337F-4BE1-83C4-F7EFEED8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11C-8047-48C9-B973-5112626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5BC-66B5-45FE-865D-F2C23A9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43F-99D9-4812-8F0A-9CBED67D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6146E-08F1-4CCB-93A3-7E4613C819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19598-260C-45C8-A96E-FB967DF31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ddo Peopl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Cam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vr_caddo_mounds.jpg"/>
          <p:cNvPicPr/>
          <p:nvPr/>
        </p:nvPicPr>
        <p:blipFill>
          <a:blip r:embed="rId1"/>
          <a:stretch/>
        </p:blipFill>
        <p:spPr>
          <a:xfrm>
            <a:off x="2705040" y="3886200"/>
            <a:ext cx="3657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n, beans, squash, deer, rabbits, and turk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did for daily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ting, making weapons, pottery, planting, and building house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perttula02-sm.jpg"/>
          <p:cNvPicPr/>
          <p:nvPr/>
        </p:nvPicPr>
        <p:blipFill>
          <a:blip r:embed="rId1"/>
          <a:stretch/>
        </p:blipFill>
        <p:spPr>
          <a:xfrm>
            <a:off x="857160" y="3078000"/>
            <a:ext cx="270504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building-lg.jpg"/>
          <p:cNvPicPr/>
          <p:nvPr/>
        </p:nvPicPr>
        <p:blipFill>
          <a:blip r:embed="rId2"/>
          <a:stretch/>
        </p:blipFill>
        <p:spPr>
          <a:xfrm>
            <a:off x="4127400" y="2724120"/>
            <a:ext cx="406404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celebrat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elebrate when people die or are bor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2" descr="Caddo Burial.jpg"/>
          <p:cNvPicPr/>
          <p:nvPr/>
        </p:nvPicPr>
        <p:blipFill>
          <a:blip r:embed="rId1"/>
          <a:stretch/>
        </p:blipFill>
        <p:spPr>
          <a:xfrm>
            <a:off x="2152800" y="2647800"/>
            <a:ext cx="50670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worship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ddo people worship a f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present the sun god they always keep a fire burning but every fall they put all the fires out and make a fresh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are known 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ddo people are known for their artistic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moore1912i-sm.jpg"/>
          <p:cNvPicPr/>
          <p:nvPr/>
        </p:nvPicPr>
        <p:blipFill>
          <a:blip r:embed="rId1"/>
          <a:stretch/>
        </p:blipFill>
        <p:spPr>
          <a:xfrm>
            <a:off x="2360520" y="2157480"/>
            <a:ext cx="31640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ntributions the Caddo people m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gave us beautiful jewelry that was not gold or silver  because it was not available in east Tex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appened to the Caddo people when settlers arriv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French came the Caddo tribe was friend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brought sickness to the Caddo t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Louisiania was bought by the United States in 1835 the Caddos peacefully moved into Tex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exas became part of the Unites States the Caddos were taken from the Brazos River to Oklahoma by Robert Neighbours to escape de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ere given a tract of land in Oklaho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05 the remaining 535 became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4:15:50Z</dcterms:created>
  <dc:creator>Camden McFarland</dc:creator>
  <dc:description/>
  <dc:language>en-US</dc:language>
  <cp:lastModifiedBy>McFarland, Dwain</cp:lastModifiedBy>
  <dcterms:modified xsi:type="dcterms:W3CDTF">2011-10-21T04:46:06Z</dcterms:modified>
  <cp:revision>39</cp:revision>
  <dc:subject/>
  <dc:title>The Caddo people </dc:title>
</cp:coreProperties>
</file>